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A2F-AA40-440A-983C-E737372D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CD5-FDAE-4F30-B4B9-92BBF75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1E9-34EE-40A9-B0DB-CA5F948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EF9-8EE6-43AE-9E5D-37496DF4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D82-083D-41FB-A18A-1740F714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FA5-8C40-4D60-8E22-F7BD17E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B70-4706-4699-A628-1B05B7E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6D6-C801-4A97-A51B-F4CFAEB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DAC-BF3D-443F-9163-65E0A04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FE3-0AE4-4AFC-BA17-F4176C6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630-A4FB-4A7F-AB86-AA7EAF4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485-7C0D-406E-82BC-7D7A77D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BD2-70B7-4D0F-BBA2-D02F47F5FDBA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Project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W. Klebsch / L. B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isation and protection of the SW MUST be managed and controlled through out the whole development cycle 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cremental integration sequence (layer dependencie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CRUM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 approach (i.e. target for next release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IDB in BEJ with Aries SVN 2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Workflow TBD in workshop (wk 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Organiz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40" y="1676520"/>
            <a:ext cx="4376880" cy="419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333520" cy="48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000" y="95868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s agreed with Voda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1120" y="9586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Aries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 – current stackup (SGlit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59072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3818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7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10T09:41:40Z</dcterms:modified>
  <cp:revision>119</cp:revision>
  <dc:subject/>
  <dc:title>PowerPoint</dc:title>
</cp:coreProperties>
</file>